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2E9-8CE9-45C8-913C-1AC1843E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E76-5CEC-4544-9C68-AD3B8E6B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E0C-44E9-44F3-8155-32DE587D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CAD-C021-4698-A351-30842B19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647-5D1E-419A-890F-7E81AE5F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ED9-7A34-4EB1-B8A6-AA3FB46B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9E4-5708-4AC6-AE1F-F40560A3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E85-BD70-49A3-98D3-B0F36456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7B4-4047-4FDD-8EF8-97E97039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ADD-8424-43DD-9A95-AA097615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B0C-AD44-47E8-933C-B95467D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0A7-A5E9-466A-B01F-774B6804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3458-C48E-44ED-AE2C-CD17C11E2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petta la be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é Bour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4 Houpetta la bella.m4a" descr=""/>
          <p:cNvPicPr/>
          <p:nvPr/>
        </p:nvPicPr>
        <p:blipFill>
          <a:blip r:embed="rId1"/>
          <a:stretch/>
        </p:blipFill>
        <p:spPr>
          <a:xfrm>
            <a:off x="44956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3:32:15Z</dcterms:created>
  <dc:creator>Angie</dc:creator>
  <dc:description/>
  <dc:language>en-US</dc:language>
  <cp:lastModifiedBy>Angie</cp:lastModifiedBy>
  <dcterms:modified xsi:type="dcterms:W3CDTF">2011-11-15T22:50:14Z</dcterms:modified>
  <cp:revision>7</cp:revision>
  <dc:subject/>
  <dc:title>Houpetta</dc:title>
</cp:coreProperties>
</file>